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F31F0-7A6C-4FC3-A053-149D476BF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113D8-4903-4707-9DC4-B579B6E5A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opi_logo_2color.jpg"/>
          <p:cNvPicPr/>
          <p:nvPr/>
        </p:nvPicPr>
        <p:blipFill>
          <a:blip r:embed="rId2"/>
          <a:stretch/>
        </p:blipFill>
        <p:spPr>
          <a:xfrm>
            <a:off x="96840" y="25560"/>
            <a:ext cx="126684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CA813-BE66-4A71-AD8D-4522D3F31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B2136-537F-40B2-9A4E-06D89D771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ad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73B7F-4B5F-4757-955B-8C9235A60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FD5-9E85-459F-98A5-373C4987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537-92E7-47B1-B36C-BCE8D20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7CD-5E22-4B58-AF36-816D3767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6CF-75F3-4A79-A4C0-37C97D20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EED-1E46-4B65-A44C-7853369E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720-FB50-4ED1-9EE9-E866DD49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C0D-06BB-4C0D-BAF6-66640EC1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DA0-F3CB-423E-9B06-AC893EE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E9C-1910-43F6-BF8D-2B0D1B1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8A2-CBEB-46E4-91B1-06BB245A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A71-02EE-4C6A-85B1-F724F58F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6D1-C71A-4159-9228-600A0545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83E78-C18D-485E-A466-66E75E66E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6A722-3A88-4F1D-939E-1F6CC69F7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opi_logo_2color.jpg"/>
          <p:cNvPicPr/>
          <p:nvPr/>
        </p:nvPicPr>
        <p:blipFill>
          <a:blip r:embed="rId2"/>
          <a:stretch/>
        </p:blipFill>
        <p:spPr>
          <a:xfrm>
            <a:off x="4084560" y="6369120"/>
            <a:ext cx="113976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kgoyins@mt.gov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chnology to Promote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ontana State Reading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ctobe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Kris Goy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msrc.PNG"/>
          <p:cNvPicPr/>
          <p:nvPr/>
        </p:nvPicPr>
        <p:blipFill>
          <a:blip r:embed="rId1"/>
          <a:stretch/>
        </p:blipFill>
        <p:spPr>
          <a:xfrm>
            <a:off x="3286080" y="1938240"/>
            <a:ext cx="25718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ikispaces.co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2200" y="1417680"/>
            <a:ext cx="8182080" cy="470844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5"/>
          <p:cNvSpPr/>
          <p:nvPr/>
        </p:nvSpPr>
        <p:spPr>
          <a:xfrm>
            <a:off x="5186520" y="2090880"/>
            <a:ext cx="1161720" cy="62676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eft Arrow 6"/>
          <p:cNvSpPr/>
          <p:nvPr/>
        </p:nvSpPr>
        <p:spPr>
          <a:xfrm rot="7880400">
            <a:off x="5028120" y="3512160"/>
            <a:ext cx="1019160" cy="744480"/>
          </a:xfrm>
          <a:prstGeom prst="left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3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 Name: ImaRea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word: love2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8229600" cy="5697360"/>
          </a:xfrm>
          <a:prstGeom prst="rect">
            <a:avLst/>
          </a:prstGeom>
          <a:ln w="0">
            <a:noFill/>
          </a:ln>
        </p:spPr>
      </p:pic>
      <p:sp>
        <p:nvSpPr>
          <p:cNvPr id="60" name="Up Arrow 4"/>
          <p:cNvSpPr/>
          <p:nvPr/>
        </p:nvSpPr>
        <p:spPr>
          <a:xfrm>
            <a:off x="731880" y="3867120"/>
            <a:ext cx="534960" cy="10177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22120" y="274680"/>
            <a:ext cx="8556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www.zooburst.com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57200" y="1641600"/>
            <a:ext cx="822960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ve Romeo and Juli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canadianshakespeares.ca/rjfolio.cf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639800" y="2084400"/>
            <a:ext cx="5523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s Goy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6)444-07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goyins@mt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j0336396.gif"/>
          <p:cNvPicPr/>
          <p:nvPr/>
        </p:nvPicPr>
        <p:blipFill>
          <a:blip r:embed="rId2"/>
          <a:stretch/>
        </p:blipFill>
        <p:spPr>
          <a:xfrm>
            <a:off x="3735360" y="4116240"/>
            <a:ext cx="1141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2:14Z</dcterms:created>
  <dc:creator>cp8175</dc:creator>
  <dc:description/>
  <dc:language>en-US</dc:language>
  <cp:lastModifiedBy>cp8175</cp:lastModifiedBy>
  <dcterms:modified xsi:type="dcterms:W3CDTF">2010-10-15T21:50:08Z</dcterms:modified>
  <cp:revision>27</cp:revision>
  <dc:subject/>
  <dc:title>Using Technology to Promote Literacy</dc:title>
</cp:coreProperties>
</file>